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2"/>
          </p:nvPr>
        </p:nvSpPr>
        <p:spPr>
          <a:xfrm>
            <a:off x="388620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3"/>
          </p:nvPr>
        </p:nvSpPr>
        <p:spPr>
          <a:xfrm>
            <a:off x="0" y="868680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4"/>
          </p:nvPr>
        </p:nvSpPr>
        <p:spPr>
          <a:xfrm>
            <a:off x="3886200" y="868680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09DC2A-341D-4E82-889A-363CC5674D1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5D11D-A716-4E5E-9218-E94C61DDA3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75988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1920" y="3957120"/>
            <a:ext cx="875988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2535B-223C-4E4F-8338-6598947B11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1920" y="395712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0760" y="395712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1AE5F-578F-4E1D-9F85-757F38553B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282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14000" y="1371600"/>
            <a:ext cx="282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371600"/>
            <a:ext cx="282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1920" y="3957120"/>
            <a:ext cx="282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14000" y="3957120"/>
            <a:ext cx="282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957120"/>
            <a:ext cx="282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D7633-BB7E-4F03-8B22-024EB2B9DF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1920" y="1371600"/>
            <a:ext cx="8759880" cy="495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7598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427464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7464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80800" y="-146160"/>
            <a:ext cx="769284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5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7464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1920" y="395712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1920" y="1371600"/>
            <a:ext cx="8759880" cy="495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CBC25-A6B7-4869-BB16-287C88DB03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427464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0760" y="395712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1920" y="3957120"/>
            <a:ext cx="875988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75988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1920" y="3957120"/>
            <a:ext cx="875988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1920" y="395712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0760" y="395712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282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14000" y="1371600"/>
            <a:ext cx="282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371600"/>
            <a:ext cx="282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1920" y="3957120"/>
            <a:ext cx="282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14000" y="3957120"/>
            <a:ext cx="282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957120"/>
            <a:ext cx="282060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7598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6A8ED-5350-4E2C-8F4A-DA541A6B30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427464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7464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2784C-C500-4555-90F6-85C8EA1E35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CEFCC-EFB5-4D89-86DA-8B71CB5EE6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80800" y="-146160"/>
            <a:ext cx="769284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5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7E3F9-7B02-4268-9884-83C8C5F5E0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7464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1920" y="395712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076A1-D960-4674-9715-864C348DB0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427464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0760" y="395712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EE43E-9081-4AB9-B018-958A68920B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0760" y="1371600"/>
            <a:ext cx="427464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1920" y="3957120"/>
            <a:ext cx="8759880" cy="23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AF6C5-9D2E-4BE0-940F-A8F2FD252A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93680" y="68400"/>
            <a:ext cx="8381880" cy="1141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80800" y="-146160"/>
            <a:ext cx="76928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371600"/>
            <a:ext cx="87598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78640" indent="-278640">
              <a:lnSpc>
                <a:spcPct val="15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6600" indent="-231480">
              <a:lnSpc>
                <a:spcPct val="15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lnSpc>
                <a:spcPct val="15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lnSpc>
                <a:spcPct val="15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lnSpc>
                <a:spcPct val="15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lnSpc>
                <a:spcPct val="15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lnSpc>
                <a:spcPct val="154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397560"/>
            <a:ext cx="19018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370CC4-1C62-42DC-836E-726064D34A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98600" y="6394320"/>
            <a:ext cx="8153280" cy="1800"/>
          </a:xfrm>
          <a:prstGeom prst="line">
            <a:avLst/>
          </a:prstGeom>
          <a:ln w="25560">
            <a:solidFill>
              <a:srgbClr val="005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203840" y="6400800"/>
            <a:ext cx="3400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808080"/>
                </a:solidFill>
                <a:latin typeface="Arial"/>
              </a:rPr>
              <a:t>National Alliance for Medical Image Computing </a:t>
            </a:r>
            <a:br>
              <a:rPr sz="1200"/>
            </a:br>
            <a:r>
              <a:rPr b="0" i="1" lang="en-GB" sz="1200" spc="-1" strike="noStrike">
                <a:solidFill>
                  <a:srgbClr val="808080"/>
                </a:solidFill>
                <a:latin typeface="Arial"/>
              </a:rPr>
              <a:t>http://na-mic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93680" y="422280"/>
            <a:ext cx="8381880" cy="11415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7083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8600" y="6172200"/>
            <a:ext cx="8153280" cy="1440"/>
          </a:xfrm>
          <a:prstGeom prst="line">
            <a:avLst/>
          </a:prstGeom>
          <a:ln w="25560">
            <a:solidFill>
              <a:srgbClr val="005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53960" y="380880"/>
            <a:ext cx="6067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200" spc="-1" strike="noStrike">
                <a:solidFill>
                  <a:srgbClr val="808080"/>
                </a:solidFill>
                <a:latin typeface="Arial"/>
              </a:rPr>
              <a:t>NA-M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200" spc="-1" strike="noStrike">
                <a:solidFill>
                  <a:srgbClr val="808080"/>
                </a:solidFill>
                <a:latin typeface="Arial"/>
              </a:rPr>
              <a:t>National Alliance for Medical Image Computing </a:t>
            </a:r>
            <a:br>
              <a:rPr sz="2200"/>
            </a:br>
            <a:r>
              <a:rPr b="0" i="1" lang="en-GB" sz="2200" spc="-1" strike="noStrike">
                <a:solidFill>
                  <a:srgbClr val="808080"/>
                </a:solidFill>
                <a:latin typeface="Arial"/>
              </a:rPr>
              <a:t>http://na-mic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81160" y="1234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ition of Slicer2.x Modules to Slicer3: Col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657600"/>
            <a:ext cx="9144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9880" y="1371600"/>
            <a:ext cx="180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2280" y="1600200"/>
            <a:ext cx="3810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25611"/>
                </a:solidFill>
                <a:latin typeface="Arial Narrow"/>
              </a:rPr>
              <a:t>Nicole Aucoin, BWH (contac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25611"/>
                </a:solidFill>
                <a:latin typeface="Arial Narrow"/>
              </a:rPr>
              <a:t>Sebastien Barre, Ki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25611"/>
                </a:solidFill>
                <a:latin typeface="Arial Narrow"/>
              </a:rPr>
              <a:t>Yumin Yuan, Ki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38480" y="1676520"/>
            <a:ext cx="5078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41960" y="1170000"/>
            <a:ext cx="35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lan/Expected Challenges/Pub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8520" y="1176480"/>
            <a:ext cx="6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18240" y="3733920"/>
            <a:ext cx="476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08920" y="4343400"/>
            <a:ext cx="3393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Got some feedback from application user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sped up display of colour tabl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Got feedback from application developer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drafted a plan to integrate tractograph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Narrow"/>
              </a:rPr>
              <a:t>needs into the MRML color hierarch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10080" y="4921200"/>
            <a:ext cx="29242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8040" y="0"/>
            <a:ext cx="305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2007 Project Half We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372560" y="1598760"/>
            <a:ext cx="4193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Plan:</a:t>
            </a:r>
            <a:r>
              <a:rPr b="0" lang="en-GB" sz="1400" spc="-1" strike="noStrike">
                <a:solidFill>
                  <a:srgbClr val="325611"/>
                </a:solidFill>
                <a:latin typeface="Arial Narrow"/>
              </a:rPr>
              <a:t> Subclass the vtkMRMLColorNode to create Procedu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25611"/>
                </a:solidFill>
                <a:latin typeface="Arial Narrow"/>
              </a:rPr>
              <a:t>and PieceWise colour nodes, subclass the Procedural node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25611"/>
                </a:solidFill>
                <a:latin typeface="Arial Narrow"/>
              </a:rPr>
              <a:t>create a FreeSurfer node. Update the ColorsGUI to 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25611"/>
                </a:solidFill>
                <a:latin typeface="Arial Narrow"/>
              </a:rPr>
              <a:t>all subclass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Expected Challenges:</a:t>
            </a:r>
            <a:r>
              <a:rPr b="0" lang="en-GB" sz="1400" spc="-1" strike="noStrike">
                <a:solidFill>
                  <a:srgbClr val="325611"/>
                </a:solidFill>
                <a:latin typeface="Arial Narrow"/>
              </a:rPr>
              <a:t> Generalising the colour nodes for eas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325611"/>
                </a:solidFill>
                <a:latin typeface="Arial Narrow"/>
              </a:rPr>
              <a:t>extensi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943600" y="3209760"/>
            <a:ext cx="3611520" cy="31910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498920" y="3657600"/>
            <a:ext cx="3730680" cy="31813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47200" y="3747960"/>
            <a:ext cx="41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ccomplished by end of Programming We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